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8D78-8BA3-4457-9E11-9A5195EEB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59198-0006-40DB-8632-1E00DEDB7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0797D-BAA7-4197-93B8-88350116F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0D2F-1501-473C-B9EF-CC8ECC50FA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EC12-F1F1-4B36-9EF4-93CFA84765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4DD7-1298-436F-A911-E8B8F7216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E514-56DE-4B0D-9588-D293F9516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F8FBB-821E-4A59-8048-04229D73C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2552-7021-494F-9327-9EDFD8797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9BFDA-0ACC-40DC-A393-95F4CEA8D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8032-6D18-483C-A348-522B10BD4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272A-F119-44D6-9A07-0BBB5EEEA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F69D-8328-413A-B385-9EB3CCA856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57F5-78E0-4BDE-A2CA-D59A57274E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Proportional Reaso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need a pen and your mar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group will have the following materials provi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the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Generic Mathematical Processes Rubric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person (you will only receive the section related to your le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BLM PR3.2Generalization Strategies and Justification Framework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BLM PR3.3 Recording Shee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ve to the tables we will designate for Numbers 1, 2 and 3.  No more than 4 people in a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it for the next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B12B-26DA-49DE-B2F5-9CB38950B7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E0EC-6600-49DF-902F-8C33935774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 Your Ta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will have the next 20 minutes (approximately) to look at the criteria for your lens using the resources we have provided to ensure that you have a common understanding as a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your group’s common understanding of “Important Things to Consider/Look For” in the top box on the Recording Sheet.  Leave other boxes bl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E07E-C767-4B97-886E-318D8DAAED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6C5F-62F3-45D3-A76E-616B247C78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380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2 ~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ach group will receive the same set of 4 student samples which have been numbered for identifi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ach person will start with one of the samp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Using BLM PR3.3, </a:t>
            </a:r>
            <a:r>
              <a:rPr b="1" lang="en-CA" sz="2200" spc="-1" strike="noStrike" u="sng">
                <a:solidFill>
                  <a:srgbClr val="000000"/>
                </a:solidFill>
                <a:uFillTx/>
                <a:latin typeface="Arial"/>
              </a:rPr>
              <a:t>INDIVIDUALLY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record your feedback for that student using the criteria for your lens (see box at top of your page). Record in the appropriate bo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When you are done, turn the sample over to signal you are ready to pass the sample to the next pers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When everyone has their sample turned over, pass the samples ONE place to the righ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98F3-EE6D-4AFE-B6C3-746D004B65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28E4-6F99-4D49-860C-F6B92ACE16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304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3 ~ 2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oun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tarting with sample 1, do a Round Table in your group, to share your feedba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ome to CONSENSUS on 1 or 2 KEY pieces of feedback for that stud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ecord with marker on the half piece of chart paper (be sure to put the student sample number on the chart paper along with the feedba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epeat for all 4 samples (approx 5 min per samp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ost chart paper beside samples on the wall when don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3284-E16E-4673-9016-DFC51D4B0E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EC5D-F824-41F1-A41D-60189F6567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4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allery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eate groups of 3 by taking one person from each Expert Group to form new Jigsaw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ake a Gallery Walk to look at each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Jigsaw group member will share the justification for feedback with the other group members, based on his/her l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B53A-6D3F-41C5-940D-BF42D2AD1B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491C-4344-4D3F-A061-00BCEE3AD9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d focussing on a particular lens help you provide feedback?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D483-21BA-4F9F-A9BA-40A404DC02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45F4-4E06-4343-B320-A45BBAB526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d you notice any overlaps in the feedback provided through the different len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D947-65CE-4A93-A80B-6649241A8C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0683-C02E-4E1B-852D-4B9D2CD6A5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ll you look at providing feedback any differently now? 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A8A2-164B-4C30-85FC-2E21C064F9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95E1-0F95-41F6-80E1-3010070C79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questions/concerns do you still hav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are your next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990C-8FC6-43E0-A781-E3ADD86937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021C-FA56-42DF-8F37-59C37B3CB6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EEAF-12F3-4B79-AFE3-34ABD2A66F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64E9-9CD9-4DFB-8E39-3AE4155A76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sider the various criteria (lenses) through which we assess studen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nderstand the importance of shared teacher/student understanding of assessment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flect on personal assessment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gnize that criteria are contex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actice responding by looking at student samples through a variety of le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2FFF-C92D-4F24-9CCF-DF5756D431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7E9D-FDEB-418B-A424-6301F2A8E9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20 minutes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CA" sz="4800" spc="-1" strike="noStrike">
                <a:solidFill>
                  <a:srgbClr val="000000"/>
                </a:solidFill>
                <a:latin typeface="Arial"/>
              </a:rPr>
              <a:t>The Clapping G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A42A-73A8-4A66-89D7-F7F20A4F97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04B3-D4F1-4E5D-B053-F6FB83FC26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 Part 1 ~ 3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are we looking for when we provide feedback to stud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Knowledge/Applicati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un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ing/Problem Solv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athematical Proc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2868-3C05-4049-B1E0-A822E5A1A1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6439-EAE9-4D4E-B38A-40E72CA19F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 will practice providing feedback on samples of student work through the following lenses (Achievement Chart and Math Process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Knowledge and Application (Selecting Tools and Strategies, Connec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unication (Representing, Communic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ing (Reasoning and Proving, Problem Solving, Reflec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894B-7D39-4043-9B2E-2C46F34D5E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1C0A-74B8-4F26-BD4C-084F6D0EE5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 will also consider the frameworks from Ruth Beatty and Cathy Br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Generalization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4CF4-5BC5-41E0-9D88-4F3E7BEB4E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CC5B-35EE-4288-B70F-871BC937B4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roups of 4 – Jig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off 1,2,3 around the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1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Knowledge and Application (Selecting Tools and Strategies, Connec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6918-FCBD-4BF9-8AB9-F879D9E9C9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3D4F-0712-4F63-9E60-59839D327E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2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Communication (Representing, Communica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19CB-79CA-41BA-9981-DD71F87EFA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5650-C547-484D-B186-D772D19C90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3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Thinking (Reasoning and Proving, Problem Solving, Reflec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280D-16DB-4B97-AEC5-01647917BB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8D65-009C-4F75-8D7F-6EA44ED29C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8-06T15:09:07Z</dcterms:modified>
  <cp:revision>30</cp:revision>
  <dc:subject/>
  <dc:title>&lt;Title&gt;</dc:title>
</cp:coreProperties>
</file>